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8BD-3B5E-446E-938A-655BEB5D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D05-ABBE-4EE3-9EBC-FB9607C0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7A8-16FC-4901-8835-A2B7823A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1C4-BEC7-40B4-9F13-ECB992A7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09FCA-8754-4D53-9A90-E610A691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FECAE-B7F7-4F67-99F2-F888761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33A1F-6921-4D45-B755-5814E82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9AF7-D6E8-43E3-83FC-E2EB2EF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9836-A827-4C83-BA78-E7C9AE50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3368-C40D-458F-A1DD-DC1A01FF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7CAAC-EBE8-44A7-AFDC-1369408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F47-29F8-4C3F-B6FD-592CDAD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5B0F7-B07F-400D-9566-1FC687D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3BEF-388F-4745-91BA-D91B437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BBB84-2919-4DEB-AFA6-A26B19D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8FA6-977F-46A4-AB02-C6EF15B3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FE40-F556-4338-A4D9-A8E745E4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246-A0EB-4847-9FF3-805078F6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D7A-E369-4C38-912F-3CD175E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8DB-E30B-4A4D-B2DA-1B349715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909-8D29-43E1-92E9-EF0945D1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2E4-0F38-4F32-8341-39869DA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535-14D5-42F9-AE81-7D7298C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E80-1207-49C4-BF1B-74BAF82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53E-8DD9-4D80-A433-669321892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EA75-082F-4180-A76F-015687A732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(Pages 18-25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4800600" cy="6856560"/>
            <a:chOff x="0" y="0"/>
            <a:chExt cx="4800600" cy="6856560"/>
          </a:xfrm>
        </p:grpSpPr>
        <p:pic>
          <p:nvPicPr>
            <p:cNvPr id="12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44840" y="62809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520" y="63460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3428640" y="31240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50532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:1-1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nes for the Monument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into Cana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0-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9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5228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- 1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- 1:10-18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 2:1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886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191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4800600" cy="6877080"/>
            <a:chOff x="0" y="0"/>
            <a:chExt cx="4800600" cy="687708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43040" y="630144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520" y="636660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4952880" y="457200"/>
            <a:ext cx="403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1219320"/>
            <a:ext cx="3276720" cy="2819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52480" y="3048120"/>
            <a:ext cx="12193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581280"/>
            <a:ext cx="6858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124080"/>
            <a:ext cx="3733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gs of the Amorites and Canaanites feared Israel – 5: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 circumcision – 5:2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Futura XBlk B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their new leader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spied out the land (Jericho)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crossed the Jordan River on dry la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made the memorials for future generation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ncamped at Gilga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now equal to Moses in their sigh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men were circumcised to roll away the reproach of Egyp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observed the Passover to celebrate the 40 years (to the night) since the firstborn of Israel were save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aten of the produce of the land of Canaa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God stopped the manna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was standing on holy grou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are now in the mist of their enemie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4800600" cy="6842160"/>
            <a:chOff x="0" y="0"/>
            <a:chExt cx="4800600" cy="6842160"/>
          </a:xfrm>
        </p:grpSpPr>
        <p:pic>
          <p:nvPicPr>
            <p:cNvPr id="15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444840" y="62665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520" y="63316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581280"/>
            <a:ext cx="4572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98108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5:13 – 6: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35268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09T14:15:56Z</dcterms:modified>
  <cp:revision>15</cp:revision>
  <dc:subject/>
  <dc:title>Joshua: The New Leader</dc:title>
</cp:coreProperties>
</file>